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2253-43BB-4975-B0E2-2C0003BA1D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05C2-5DFD-40A1-9BBD-980C80E4FE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C47-E11B-4178-AC5C-D344D25D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796-1EB3-411B-8A26-F13D34F7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32C-2958-4586-AEEC-4747F7D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250-148C-4D64-805D-4062731C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9CC-3D0A-422F-AC7E-80DF7805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97F-EF67-4B29-ADC3-59CC662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88C-F044-4457-BBDD-80EF83F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22C-8DF3-474F-9E78-D31CEC7F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219-09EF-48F6-B4D3-2831729A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949-AB7F-4F29-9FD6-C8A6DB57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DB2-FCBE-4EDE-AB34-2A99D3D0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651-450F-4360-8B8E-CBAB668B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21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35DD-2191-46B7-8713-A81F588BCC8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00B1-4DDB-40F8-B6C2-7586ED04A4C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давање бр.5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ОХЕМИЈ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АРАМЕТР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ДИЈАГНОСТИЧК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" y="9144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362320" y="685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mic Sans MS"/>
              </a:rPr>
              <a:t>Клиничка фармација 1 – Г0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816F-512B-4401-83AA-A91CCA8385F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г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ве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времен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ничк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хемијск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ага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дишњ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ш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лио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2F32-9720-4DE3-8120-4497E970E95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ро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кта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вољ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ихов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актерист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вар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л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ас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 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цион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њ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адеква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ир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вољ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ун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хемича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отреб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ађе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маш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шк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итив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е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со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шко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5F5-8B4A-4764-B67F-CD702B632F21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37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пу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ктерист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циз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ч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етљив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ч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еар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етљив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ч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ик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ферен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анали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BFE1-A4D1-4DFC-BC72-B3700CDD754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ш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тин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лу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а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ор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тич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т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ч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мне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ч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гл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ш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вале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ул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п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AC0A-5654-4C7E-A9B8-0AB4924A454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ме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тинс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ар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јашњава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ск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лифик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треб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ринин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A15E-5E96-420A-BE25-EF4A70EFA76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1280" y="1218960"/>
            <a:ext cx="88027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лог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овер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дравственог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т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т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дређивањ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фактор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из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зич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етекциј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л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кључивањ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уп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љ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ме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фич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дур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цион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9B86-A3F1-44B9-B2CC-72A24B82710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 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789200"/>
          <a:ext cx="9144000" cy="4370400"/>
        </p:xfrm>
        <a:graphic>
          <a:graphicData uri="http://schemas.openxmlformats.org/drawingml/2006/table">
            <a:tbl>
              <a:tblPr/>
              <a:tblGrid>
                <a:gridCol w="2155680"/>
                <a:gridCol w="69883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утински</a:t>
                      </a:r>
                      <a:r>
                        <a:rPr b="1" lang="sr-Latn-C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е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Индикације</a:t>
                      </a:r>
                      <a:r>
                        <a:rPr b="1" lang="sr-Latn-C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о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ива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брег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инарног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КС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тн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вн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к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ми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итроцито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цитеми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амаци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ључива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рагич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емећа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ишен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атокрит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јав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нар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ча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бетес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709-3D33-4179-AF04-044BCC335851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6160" y="6854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 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1828800"/>
          <a:ext cx="9144000" cy="5059440"/>
        </p:xfrm>
        <a:graphic>
          <a:graphicData uri="http://schemas.openxmlformats.org/drawingml/2006/table">
            <a:tbl>
              <a:tblPr/>
              <a:tblGrid>
                <a:gridCol w="2519280"/>
                <a:gridCol w="66247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утински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Индикације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иментација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ам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Б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бриноге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ламаци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итива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гритет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стаз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еријск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в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ов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аркт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окард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дан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коза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бетес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к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ч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шћ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69E0-2240-4FCE-91E7-5A9DBEB12D0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6160" y="6854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 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714680"/>
          <a:ext cx="9144000" cy="504504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утински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Индикације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1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Н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ини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ог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зи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омерулар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тр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цијум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паратиреоидизм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к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н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ључујућ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е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и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еопоро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ж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калцеми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ј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литиј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естерол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глицерид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о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ива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еросклероз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к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0603-2B42-4948-B980-BE4850A40B4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637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 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импто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941480"/>
          <a:ext cx="9144000" cy="4075200"/>
        </p:xfrm>
        <a:graphic>
          <a:graphicData uri="http://schemas.openxmlformats.org/drawingml/2006/table">
            <a:tbl>
              <a:tblPr/>
              <a:tblGrid>
                <a:gridCol w="2666880"/>
                <a:gridCol w="6477120"/>
              </a:tblGrid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Рутински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Индикације</a:t>
                      </a:r>
                      <a:r>
                        <a:rPr b="1" lang="sr-Latn-C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0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трансфер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т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трансфер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кциј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ључивањ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патобилијарн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в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љ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њ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ц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мишић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re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виру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истичког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глед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урикемиј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ректан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анак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емијских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љењ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о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илиј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79D0-A90B-4E91-A113-32A5A940FE63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охем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хе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став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мен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ћ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хемиј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учав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род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стоја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о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нсформа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нергет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за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от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ј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љ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знав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гриса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јед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иј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титуен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ч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прино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ављањ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ћењ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8A58-280B-4637-B209-1FFB3BECDF73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раже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врд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вентуал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л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и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но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хо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4305-C07B-4C84-AB0D-84210749557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јас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ње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сигурно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лед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н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ар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з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нош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л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FE5D-1A0A-4C02-95A9-515D6B8B9D6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ринин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тинс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ндикова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ћ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47DC-048D-4F62-98CA-E8291DF8D783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лцију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бројн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њего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тин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хипокалцем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венстве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ролош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ромускулар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тан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ч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итм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стинал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че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хиперкалцем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уролош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за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лциф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о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ућ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удц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лкуло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инар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B181-2960-45AB-94DB-ADD8F558571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723920" y="1904760"/>
            <a:ext cx="4257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п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изам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буминеми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чна болест бубрега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фиц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нутри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паратизоид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јел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зирај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цином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коид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: тиазидни диуретиц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ијум, витамин 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плементи калцију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6. Лекови: калцитонин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фосфан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ротоксик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79FD-7CDA-4D40-8038-820489BEBDF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органск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сфо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т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тироиде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апсорп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там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B61E-EB26-488E-970D-C38BBA68358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ж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паратироид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ињство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омер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ам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паратироидиза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фици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ам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апсорп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укоз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алимент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инзулин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а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и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нцониев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ли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ич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етоацидоз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х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4690-FA07-4553-AF5C-5EE96B96434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нал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докри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тиреоидиза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ералокортикои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трију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уролош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ум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целулар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ектроли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цидобаз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компенз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хр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C56B-352B-4876-88E0-8D65793A031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ипиду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 течн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о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љ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ж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екот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ој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алдостерон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инг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да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рохирурш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хва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натрије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р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дилу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ш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тр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штећ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бу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уретиц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бубреж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ојењ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аж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натрије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липидем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у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8434-8D93-4277-B8B0-1DEEB3F3C91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лори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лан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трију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цид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уре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фициј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1999-E918-4369-AF8F-451FCE28FDA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некад</a:t>
            </a:r>
            <a:r>
              <a:rPr b="0" lang="sr-Latn-CS" sz="3200" spc="-1" strike="noStrike">
                <a:solidFill>
                  <a:srgbClr val="c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ал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ђусоб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завис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хемиј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ат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т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кроби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ун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мо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коло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тофизиоло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виј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нуел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6618-C174-4B32-9410-8210AD3433C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2287080"/>
            <a:ext cx="426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готрајна дијаре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реж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бул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ерпаратироид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готрај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аћање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котине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реж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бит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ли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јазид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C0D8-CB5A-43F2-95AE-1778C8FB03E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лију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пертенз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итм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ре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раћ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лектроли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цид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нал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урет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ч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омпенза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еко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F15C-8EFC-4BA8-BCF9-D59BF59C9C8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ж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омерул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ренокортикал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етоацидоз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омер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веноз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лијум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п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ж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бул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алдостерониза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нутри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ич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етоацидозе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инсулиниза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аболич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калоз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уретицим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строинтестинал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кт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D093-CF22-4345-8373-605DD36AE37F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P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теин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total prote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тез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фици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трицио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апсорп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ст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иш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умати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дређ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раг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о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иг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зивно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з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они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73A9-E12F-40BB-B9BB-C1FEFB35DE4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јел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ркоид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4956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мер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дратаци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нутрициј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јел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амаглобулин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лигност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фрот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дром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нтеропат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бит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5556-2DD2-4276-AABE-8879FD18737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LB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бум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бум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итива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дематоз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7C8-23B6-4D71-B5E3-214E8C9FBAB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LB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бум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ж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фрот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к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ино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е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тез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бум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нутри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ал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екот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CD9F-EFDC-41FB-A15C-4B5A1B6391D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GLU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уко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коз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иу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идип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убит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ж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глик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F85A-36F5-461D-81EB-C3C2D8E7C8C2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GLU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уко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литу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креат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ндокр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и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јаз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ацепти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он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г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веноз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уз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укоз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прандиј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лином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ренокортикал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страпанкреатич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лаз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ш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зумир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онал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гликем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дијабет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гликем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икоге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орођен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4F63-C2FF-42E0-8F14-A75D2B890A2A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BIL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упни билирубин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ут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7208-0B28-42B1-80D5-5EF967A7EDD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637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ад</a:t>
            </a:r>
            <a:r>
              <a:rPr b="0" lang="sr-Latn-CS" sz="3200" spc="-1" strike="noStrike">
                <a:solidFill>
                  <a:srgbClr val="c00000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цион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ацион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д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љ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валит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ген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рављ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т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ећ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ај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ж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ед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утоматиз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боратор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д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а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авља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со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цијализова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ед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вар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атолош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а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време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ар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јач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ре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њихов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фолог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C960-35EC-44CA-B2DA-70028A4BAD5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BIL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упни билируб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страхепат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струк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ли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ворођенч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оло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билирубине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лберт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399C-9BA8-4F0E-8501-16496CC30A9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ференцијал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ференцијалн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атин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зот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утама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хидроген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кал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сфат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обилијар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л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кта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хидроген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ти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оли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тив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е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лам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кробиолош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уноглобул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0012-6A9B-4EDF-B79B-478A3883CA4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ференцијал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тн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жб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ференцијац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бдоминалног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поруч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е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AMIL,ALT,AST,TBIL,GLU,K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рол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ут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уд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датно се ради CK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еат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епс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е одређују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451-A1EC-4D38-8EE9-56CC769045D0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K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еат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наз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ар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окар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реси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шић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троф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рматомиозити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осмолал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ирију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мен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лепт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отироид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рурш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хвати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зи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мускул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њек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ктивност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шић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F019-63ED-4E36-8747-1BAD6F8EED0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IL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мил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креатитис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форирају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нетрирају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елуц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ут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уш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стру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креас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м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уч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а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уч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ш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м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стру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нкреас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ж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BB17-385C-4612-A4BE-9E09699616A2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P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кал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сфат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рахепа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еста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хепа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еста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област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ва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кал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сфатазу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фосфат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B3AB-8796-41E0-8E47-1A2EC5E8831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GGT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м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-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утамил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нсфераз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патобилијар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ести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жи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к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нито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енобарбита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а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722D-CC6F-4B56-8D83-7EF3DF2CFDE6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ST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сп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тат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инотрансфераз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патоцелулар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рус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ч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кохо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ар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окар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ли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елет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ар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ућ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хепат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лијар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стру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мин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дију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тре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дијализ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EF27-85CF-4DBD-BD45-58E8471D787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LT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анин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минотрансфер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ише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рус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ксич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ектив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онуклеоз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кохо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пат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имиоз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ижених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мин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дију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реж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одијализ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бреж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фициј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074A-2F39-40B7-AA6D-FBD05AE9C52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8680" y="2666520"/>
            <a:ext cx="82087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бо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ковани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е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рх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ћ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воља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FA08-0DDF-40C2-B23C-A7BCFBF0D39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унохемијск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луоросцен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минисцен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отреб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време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и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етљив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ч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д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мет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ск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м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ичи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те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г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рк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B4E1-3813-4820-BE32-83A81E86B10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-360" y="2438280"/>
            <a:ext cx="8769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н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зика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и триглицер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е мале ЛДЛ чести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 хомоцист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 липопротеин Л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 фибриног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ишени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ламаторни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кери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тивни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ин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абораторијски параметри који се користе з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ну стања кардиоваскуларног сис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2B5-9360-4562-A152-3BDD5044896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иохемијски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рдијални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рк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упн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PK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K (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тин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сфокина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н киназа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ензим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форм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огло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понин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ктат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хидрогеназ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 (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0DF9-3473-4309-A901-89131539A0C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е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јабете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поликеми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ек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ек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зе антикоагулант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креатитин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ал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фротокси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холинестераз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они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DB64-7C1D-49D0-8B15-FAECEA31AED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ће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едећ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тин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но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патобилијар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кох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иотерап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К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R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тенз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7D14-C84E-4E28-AEE5-FD5E44A2329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претац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мерич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д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та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б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уж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какв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м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абил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оре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дношћ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в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пеш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пход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в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и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ш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анали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0F5E-C2C4-41FB-B249-7E13ECFE66BB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претац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а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т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ниц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ерент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уч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ај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гред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аж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вар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упи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ај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26D6-CCB2-4E63-975B-5B09626799A5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терпретац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прета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т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ж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титуен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з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ћел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трацелулар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уп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држа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пециф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нормал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иј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3BFC-A6B0-41FF-B94E-A4BFE0AB837D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чк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њ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ш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а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прино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сти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21AF-C926-44B3-9BFF-8B07EB6F063C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заменљи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мин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окалц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ис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фолош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актеристик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арк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окар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хват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ли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а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ужај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допунск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нформ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м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јагностич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ду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уп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рес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3697-2C8A-4D9F-BD06-26052AED53E4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вр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фек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но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0147-83D8-4122-83F6-A473E3F5C81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с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равстве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ај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р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зи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раживачко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аж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јашњава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хемиј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esela</dc:creator>
  <dc:description/>
  <dc:language>en-US</dc:language>
  <cp:lastModifiedBy>User</cp:lastModifiedBy>
  <dcterms:modified xsi:type="dcterms:W3CDTF">2019-09-12T21:43:11Z</dcterms:modified>
  <cp:revision>70</cp:revision>
  <dc:subject/>
  <dc:title>Развој фармацеутске делатности</dc:title>
</cp:coreProperties>
</file>